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A38-ADC9-4F35-B5B1-B70F3326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2E6-D18A-4FDB-85BD-9848D5C9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72D-AAE0-447B-A5B5-81987CCD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D91-82EC-4CC0-8D62-2F35AD38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AEC4-676A-4EB1-A9D9-B53EAAD0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8C73-B4C7-4844-95FD-7F9B2DCC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C806-E606-4160-A53F-25F4AC3A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3D83-A5C8-4EC9-91B7-346F0A06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4C82-D3C2-4D66-B9F7-858F91D8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C6A4-C608-4860-8D26-946B3E3A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7CFC-4984-42CF-BB43-84422C28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4EF-866A-4E40-B12A-8EA5B6CA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14AF-D64B-41AE-9AC1-474ED6CC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749A-AA56-4F1F-8DFD-5FE602FB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7F5E-6ED3-4392-875E-41C7FA4B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CABD-7B38-4EE3-8FFF-D7C8BF16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5C59-0BDD-4FBD-BE2C-0E4810D7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0C9-587A-4B1A-9426-F74ADC69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31A-12EE-4A11-9652-DDC7AAA7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D62-D5D4-4D2F-9BE6-578785FA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4F1-4DAA-47A1-9955-319DCC68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AF1-81C1-489B-91BD-BBDC93FB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A38-BF5E-4AF9-A83E-3B1084A3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E5E-4C9B-45FB-BB2D-98CA5A36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F2A0-9B5E-416C-9A75-6FF57C3E90D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8654-9A88-4E31-B9C0-5E42F1F9967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sic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tra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Wizard of Oz (1939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5149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your opinion of musical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type of musical do you believe works the bes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potential benefits to musical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musicals a part of the film industry yet tod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Mus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ends narrative and s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dramatic regis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als use integration – the level to which the music is woven into the plot of the 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Musical (cont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musicals gained in popularity from the 1930s-1950s, they slowly died out by the mid-196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als have made a comeback in the recent dec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ney – Beauty and the Beast (19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critical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ago – Best Picture Winner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integrated Mus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al numbers not integrated into plot of the 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ten, music is for fantasy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es under critic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s the question: “Why have the music if it is not necessar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Chicago (2002), The Jazz Singer (192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hicago (200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62200" y="2000160"/>
            <a:ext cx="5619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Backstage Mus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ngs often rehears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tions must occur from the narrative to the musical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continues to move the plot al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eet (1933), Moulin Rouge (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ulin Rouge (200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150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egrated Mus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becomes part of the pl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hur Freed (MGM) most no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zard of Oz (19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in’ in the Rain (19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is necessary as major plot points occur and are resol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Singin’ in the Rain (1952), The Wizard of Oz (193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ngin’ in the Rain (195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6:04:06Z</dcterms:created>
  <dc:creator>jvanengen</dc:creator>
  <dc:description/>
  <dc:language>en-US</dc:language>
  <cp:lastModifiedBy>jvanengen</cp:lastModifiedBy>
  <dcterms:modified xsi:type="dcterms:W3CDTF">2010-05-02T16:31:17Z</dcterms:modified>
  <cp:revision>3</cp:revision>
  <dc:subject/>
  <dc:title>Musicals</dc:title>
</cp:coreProperties>
</file>